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jpeg" ContentType="image/jpeg"/>
  <Override PartName="/ppt/media/image13.wmf" ContentType="image/x-wmf"/>
  <Override PartName="/ppt/media/image8.jpeg" ContentType="image/jpeg"/>
  <Override PartName="/ppt/media/image10.jpeg" ContentType="image/jpeg"/>
  <Override PartName="/ppt/media/image9.png" ContentType="image/png"/>
  <Override PartName="/ppt/media/image18.jpeg" ContentType="image/jpeg"/>
  <Override PartName="/ppt/media/image6.wmf" ContentType="image/x-wmf"/>
  <Override PartName="/ppt/media/image17.png" ContentType="image/png"/>
  <Override PartName="/ppt/media/image16.jpeg" ContentType="image/jpeg"/>
  <Override PartName="/ppt/media/image14.jpeg" ContentType="image/jpeg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11.wmf" ContentType="image/x-wmf"/>
  <Override PartName="/ppt/media/image3.png" ContentType="image/png"/>
  <Override PartName="/ppt/media/image5.jpeg" ContentType="image/jpeg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663600" cy="9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877680" y="736200"/>
            <a:ext cx="4910040" cy="368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888480" y="4664160"/>
            <a:ext cx="48848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932940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774960" y="932940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3CDE9-6070-468E-ABDA-A2F1DFDF01DA}" type="slidenum"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876240" y="52704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61760" y="7086240"/>
            <a:ext cx="488628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rtaciones Agropecuari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36640" y="7539120"/>
            <a:ext cx="4949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8639-5F97-4C02-B070-EC2D3EA15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2728-B81F-43DD-BB44-10043E3E3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15C0-ED12-4DAD-8DF9-F639DE61B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B3B3-FF9F-46D6-9E6F-9C3CD8759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32E69-7DBE-40B9-85BC-0B38A9CF2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60A59-5DE3-441D-9B21-1BFA916E0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234A4-D64B-49AC-9063-72A6E72A1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73A1F-A9C4-4EB4-9792-C5F8F0755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FABAD-AF1D-40E9-A2E4-78A2D2E4F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5FA25-9606-4ED7-8398-88BDCB64F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C7699-B144-4B07-AAEF-374FF543C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D41C-B98F-4BB1-86D3-AC21D66BE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40485-DC5E-4718-9574-3F56EFCBF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3CEAF-3E5E-4A5F-8607-AC71D5482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5A5E0-AE19-4BD9-9B82-590528408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909F2-97BD-49D8-BA86-018647804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1CADE-A707-4008-8427-D51460037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1E337-54D8-4536-A75D-74A8BED57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54E55-0305-4B9A-A0BE-319278480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546E6-D5AB-495E-8167-ED72136C4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DC0D3-8648-44E2-8025-6DFFA9799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19E43-936C-4EDC-BD51-2DE2CAC26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EAAD-44A6-4106-A253-4A9853860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46ED1-5EE3-48B0-A4D6-FEC6ED516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3D24E-0690-46C4-A5FA-23D7A1ABB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85035-7724-4B9B-BA6B-B29FAEDD2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592CC-5112-47CA-8381-EFBFDED57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0C2E8-1DB1-439B-B1F1-6B237B33E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0ABBD-C431-40E6-B5D4-9861E544B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7B16F-AD63-47DB-99F9-177088BE9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56EE1-BF03-4804-B02D-1C9B6829D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D3F35-D699-4409-95A7-829E65253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088C7-2EB8-4C08-96DE-DDE6F1EDC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E1BF-EFAD-4BA7-A51A-AA400D43C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E1C54-23F3-4E46-AC5D-8A076A3A3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50CDB-F52F-4259-A779-9E7DEB16C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E1823-15B7-459A-8A50-F03A6351E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67C9D7-5FC4-49EA-AB48-ED35C8B41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757CB8-DE8D-4633-B886-C8AE651C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545BC-6118-4FCD-8F19-FCD810266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4B553-9ED3-44AF-87EE-347908F43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05258-2892-4B36-A060-29E20B442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926FD-0AC4-4D40-893C-A6558024A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1AA3-F48A-437F-8144-F6EE577BA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8D68-4780-4401-B2D3-BBD08FA4C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A644-48B8-47D8-B8C6-2CB70EB8C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E502-9B47-4A45-A104-724E7CA6E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BA98-7A1B-4035-8AC9-325E2B1CD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03B90-E326-4F6B-92F5-0E7BE7AD15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19640" y="609120"/>
            <a:ext cx="503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34D51-3507-48F2-B513-B41B0EB48E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FBCD2-CE49-4376-A2F9-18E13FB3A4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292360" y="609120"/>
            <a:ext cx="316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AF038-907B-4B97-B07D-79424E1676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6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2708280"/>
            <a:ext cx="914400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Oportunidades de Negocio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dentro del Marco del TLC en Estados Unid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50920" y="1287360"/>
            <a:ext cx="8762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ffffff"/>
                </a:solidFill>
                <a:latin typeface="Times New Roman"/>
              </a:rPr>
              <a:t>inform</a:t>
            </a:r>
            <a:r>
              <a:rPr b="1" i="1" lang="es-MX" sz="4000" spc="-1" strike="noStrike">
                <a:solidFill>
                  <a:srgbClr val="ff0000"/>
                </a:solidFill>
                <a:latin typeface="Times New Roman"/>
              </a:rPr>
              <a:t>@</a:t>
            </a:r>
            <a:r>
              <a:rPr b="1" i="1" lang="es-MX" sz="4000" spc="-1" strike="noStrike">
                <a:solidFill>
                  <a:srgbClr val="ffffff"/>
                </a:solidFill>
                <a:latin typeface="Times New Roman"/>
              </a:rPr>
              <a:t>cció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68360" y="5516640"/>
            <a:ext cx="4800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Arial"/>
              </a:rPr>
              <a:t>www.informaccion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26920" y="141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AICACOLOR</a:t>
            </a:r>
            <a:br>
              <a:rPr sz="2800"/>
            </a:b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(Colorantes de Achiot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2195640" y="2852640"/>
            <a:ext cx="4681440" cy="26798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8000" y="653904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AMISEA - PLUSPETRO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1163520" y="1981080"/>
            <a:ext cx="6816960" cy="41148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3421080" y="155736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DE CAMISEA A LI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09440" y="6539040"/>
            <a:ext cx="14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lustetr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KANTU                             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(Cerámicas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2050920" y="1773360"/>
            <a:ext cx="5148360" cy="41148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108000" y="653904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514000" y="651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1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228600" y="1268280"/>
            <a:ext cx="8915400" cy="34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Verdana"/>
              </a:rPr>
              <a:t>¡Upa upa upapá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Verdana"/>
              </a:rPr>
              <a:t>El Cienciano es el papá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Verdana"/>
              </a:rPr>
              <a:t>¡Sí se puede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403280" y="54000"/>
            <a:ext cx="7740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7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XPORTACIONES TOTALES POR MES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(Millones US$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0240" y="1197000"/>
            <a:ext cx="9055080" cy="5477040"/>
            <a:chOff x="30240" y="1197000"/>
            <a:chExt cx="9055080" cy="5477040"/>
          </a:xfrm>
        </p:grpSpPr>
        <p:graphicFrame>
          <p:nvGraphicFramePr>
            <p:cNvPr id="178" name=""/>
            <p:cNvGraphicFramePr/>
            <p:nvPr/>
          </p:nvGraphicFramePr>
          <p:xfrm>
            <a:off x="30240" y="1322280"/>
            <a:ext cx="9055080" cy="4896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240" y="1322280"/>
                      <a:ext cx="9055080" cy="489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0" name=""/>
            <p:cNvSpPr/>
            <p:nvPr/>
          </p:nvSpPr>
          <p:spPr>
            <a:xfrm>
              <a:off x="128160" y="6215040"/>
              <a:ext cx="2358360" cy="459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Verdana"/>
                </a:rPr>
                <a:t>Junio 2004 es preliminar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Verdana"/>
                </a:rPr>
                <a:t>Fuente:  BCR-PROMPEX - 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44200" y="1197000"/>
              <a:ext cx="768060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9900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ffcc00"/>
                  </a:solidFill>
                  <a:latin typeface="Arial"/>
                </a:rPr>
                <a:t>1993     1994    1995     1996    1997    1998    1999     2000     2001    2002    200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22160" y="1584360"/>
              <a:ext cx="789228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cc00"/>
                  </a:solidFill>
                  <a:latin typeface="Arial"/>
                </a:rPr>
                <a:t>$3,516    $4,598   $5,589    $5,898   $6,832    $5,757   $6,113    $7,024  $7,108   </a:t>
              </a:r>
              <a:r>
                <a:rPr b="1" lang="es-ES_tradnl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$7,688    $8,95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"/>
          <p:cNvGrpSpPr/>
          <p:nvPr/>
        </p:nvGrpSpPr>
        <p:grpSpPr>
          <a:xfrm>
            <a:off x="168120" y="838080"/>
            <a:ext cx="8975880" cy="6021720"/>
            <a:chOff x="168120" y="838080"/>
            <a:chExt cx="8975880" cy="6021720"/>
          </a:xfrm>
        </p:grpSpPr>
        <p:sp>
          <p:nvSpPr>
            <p:cNvPr id="184" name=""/>
            <p:cNvSpPr/>
            <p:nvPr/>
          </p:nvSpPr>
          <p:spPr>
            <a:xfrm>
              <a:off x="168120" y="6400800"/>
              <a:ext cx="2343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*2004 es preliminar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Fuente: BCR-PROMPEX-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85" name=""/>
            <p:cNvGraphicFramePr/>
            <p:nvPr/>
          </p:nvGraphicFramePr>
          <p:xfrm>
            <a:off x="176040" y="838080"/>
            <a:ext cx="8967960" cy="5524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8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76040" y="838080"/>
                      <a:ext cx="896796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08000" y="-10044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PERU: EXPORTACION POR SECTORES ECONOMICOS</a:t>
            </a:r>
            <a:br>
              <a:rPr sz="1600"/>
            </a:b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 1990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2004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Millones US$ FOB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sh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42920" y="-100440"/>
            <a:ext cx="72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ERU: EXPORTACIONES AGROPECUARIAS POR PRODUCTO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1990-200</a:t>
            </a: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(Millones US$ FOB)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81492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85760" y="836640"/>
            <a:ext cx="8948880" cy="5748480"/>
            <a:chOff x="185760" y="836640"/>
            <a:chExt cx="8948880" cy="5748480"/>
          </a:xfrm>
        </p:grpSpPr>
        <p:sp>
          <p:nvSpPr>
            <p:cNvPr id="194" name=""/>
            <p:cNvSpPr/>
            <p:nvPr/>
          </p:nvSpPr>
          <p:spPr>
            <a:xfrm>
              <a:off x="331920" y="6308640"/>
              <a:ext cx="39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Fuente:</a:t>
              </a:r>
              <a:r>
                <a:rPr b="1" lang="es-MX" sz="1200" spc="-1" strike="noStrike">
                  <a:solidFill>
                    <a:srgbClr val="ffffff"/>
                  </a:solidFill>
                  <a:latin typeface="Verdana"/>
                </a:rPr>
                <a:t> ADEX – PROMPEX -</a:t>
              </a: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 ADUANAS-MINAG-BC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95" name=""/>
            <p:cNvGraphicFramePr/>
            <p:nvPr/>
          </p:nvGraphicFramePr>
          <p:xfrm>
            <a:off x="185760" y="836640"/>
            <a:ext cx="8948880" cy="5524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85760" y="836640"/>
                      <a:ext cx="894888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-5040" y="6400800"/>
            <a:ext cx="2018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Datos al mes de jul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79280" y="981000"/>
          <a:ext cx="8915400" cy="548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981000"/>
                    <a:ext cx="89154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07640" y="-360"/>
            <a:ext cx="68756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RODUCCION DE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COBRE POR PRINCIPALES EMPRESAS 1991-2004* (M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iles TMF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768320" y="-360"/>
            <a:ext cx="737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PERU: BALANZA COMERCIAL DE HIDROCARBUROS </a:t>
            </a:r>
            <a:br>
              <a:rPr sz="1600"/>
            </a:br>
            <a:r>
              <a:rPr b="1" lang="es-PE" sz="1400" spc="-1" strike="noStrike">
                <a:solidFill>
                  <a:srgbClr val="ffffff"/>
                </a:solidFill>
                <a:latin typeface="Verdana"/>
              </a:rPr>
              <a:t>1975-2004*</a:t>
            </a:r>
            <a:r>
              <a:rPr b="1" lang="es-MX" sz="14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1" lang="es-PE" sz="1400" spc="-1" strike="noStrike">
                <a:solidFill>
                  <a:srgbClr val="ffffff"/>
                </a:solidFill>
                <a:latin typeface="Verdana"/>
              </a:rPr>
              <a:t>Millones US$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-3960" y="789120"/>
            <a:ext cx="8900280" cy="6168240"/>
            <a:chOff x="-3960" y="789120"/>
            <a:chExt cx="8900280" cy="6168240"/>
          </a:xfrm>
        </p:grpSpPr>
        <p:sp>
          <p:nvSpPr>
            <p:cNvPr id="205" name=""/>
            <p:cNvSpPr/>
            <p:nvPr/>
          </p:nvSpPr>
          <p:spPr>
            <a:xfrm>
              <a:off x="-3960" y="6437160"/>
              <a:ext cx="2907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* Datos al mes de may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Fuente:  MEM / INFORM@CC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06" name=""/>
            <p:cNvGraphicFramePr/>
            <p:nvPr/>
          </p:nvGraphicFramePr>
          <p:xfrm>
            <a:off x="0" y="789120"/>
            <a:ext cx="8896320" cy="54212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0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789120"/>
                      <a:ext cx="8896320" cy="542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in" orient="ver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332000" y="0"/>
            <a:ext cx="7315200" cy="72612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RU: ARRIBOS DE EXTRANJER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(Miles de persona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2880" y="765000"/>
            <a:ext cx="9099720" cy="6027840"/>
            <a:chOff x="2880" y="765000"/>
            <a:chExt cx="9099720" cy="6027840"/>
          </a:xfrm>
        </p:grpSpPr>
        <p:sp>
          <p:nvSpPr>
            <p:cNvPr id="214" name=""/>
            <p:cNvSpPr/>
            <p:nvPr/>
          </p:nvSpPr>
          <p:spPr>
            <a:xfrm>
              <a:off x="2880" y="6394320"/>
              <a:ext cx="1647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Fuente: MITINCI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laboración: 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inform@cció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15" name=""/>
            <p:cNvGraphicFramePr/>
            <p:nvPr/>
          </p:nvGraphicFramePr>
          <p:xfrm>
            <a:off x="34920" y="765000"/>
            <a:ext cx="9067680" cy="5315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4920" y="765000"/>
                      <a:ext cx="9067680" cy="531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7" name=""/>
            <p:cNvSpPr/>
            <p:nvPr/>
          </p:nvSpPr>
          <p:spPr>
            <a:xfrm>
              <a:off x="34920" y="5734080"/>
              <a:ext cx="4876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NOTA: Se considera arribos al ingreso de personas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con pasaporte extranjero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(*) Dato estimado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split dir="out" orient="ver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692360" y="115920"/>
            <a:ext cx="7451640" cy="67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CUZCO: RECAUDACION POR VENTA DE BOLETOS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002 – jul 2004 (en miles de nuevos sole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91080" y="914400"/>
            <a:ext cx="8994240" cy="5843160"/>
            <a:chOff x="91080" y="914400"/>
            <a:chExt cx="8994240" cy="5843160"/>
          </a:xfrm>
        </p:grpSpPr>
        <p:sp>
          <p:nvSpPr>
            <p:cNvPr id="222" name=""/>
            <p:cNvSpPr/>
            <p:nvPr/>
          </p:nvSpPr>
          <p:spPr>
            <a:xfrm>
              <a:off x="91080" y="6237360"/>
              <a:ext cx="2255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uente: OFEC-CUSC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laboración: 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inform@c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23" name=""/>
            <p:cNvGraphicFramePr/>
            <p:nvPr/>
          </p:nvGraphicFramePr>
          <p:xfrm>
            <a:off x="162000" y="914400"/>
            <a:ext cx="8923320" cy="5383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62000" y="914400"/>
                      <a:ext cx="8923320" cy="538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Potencial de Nuevos Negocios en Cusc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41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cao, Caf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chiote – Colorantes (AICACOLO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imiento Piquillo, Páprika, Alcachofa sin espin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Granos Andinos Procesados (Industrias Molicusc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millas (Semillas Andahuaylas) – Anís, Linaza (Curahuasi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ara (CIDIAP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enestras (Don Gran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ie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ruch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rnes Rojas (AGROBA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erámicas Kant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misea (Pluspetro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Joyería, Artesaní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urism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03640" y="658332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7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1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5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9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500"/>
                            </p:stCondLst>
                            <p:childTnLst>
                              <p:par>
                                <p:cTn id="14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3" dur="5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4000"/>
                            </p:stCondLst>
                            <p:childTnLst>
                              <p:par>
                                <p:cTn id="14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7" dur="5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4500"/>
                            </p:stCondLst>
                            <p:childTnLst>
                              <p:par>
                                <p:cTn id="14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51" dur="5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0"/>
                            </p:stCondLst>
                            <p:childTnLst>
                              <p:par>
                                <p:cTn id="15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55" dur="500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59" dur="500"/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63" dur="500"/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6500"/>
                            </p:stCondLst>
                            <p:childTnLst>
                              <p:par>
                                <p:cTn id="16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67" dur="500"/>
                                        <p:tgtEl>
                                          <p:spTgt spid="2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71" dur="500"/>
                                        <p:tgtEl>
                                          <p:spTgt spid="2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7500"/>
                            </p:stCondLst>
                            <p:childTnLst>
                              <p:par>
                                <p:cTn id="17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75" dur="500"/>
                                        <p:tgtEl>
                                          <p:spTgt spid="2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8000"/>
                            </p:stCondLst>
                            <p:childTnLst>
                              <p:par>
                                <p:cTn id="17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79" dur="500"/>
                                        <p:tgtEl>
                                          <p:spTgt spid="2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8500"/>
                            </p:stCondLst>
                            <p:childTnLst>
                              <p:par>
                                <p:cTn id="18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90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2T09:43:22Z</dcterms:created>
  <dc:creator>JOSE GROSSO</dc:creator>
  <dc:description/>
  <dc:language>en-US</dc:language>
  <cp:lastModifiedBy>jore</cp:lastModifiedBy>
  <cp:lastPrinted>2000-04-03T20:20:19Z</cp:lastPrinted>
  <dcterms:modified xsi:type="dcterms:W3CDTF">2004-08-12T21:33:27Z</dcterms:modified>
  <cp:revision>1159</cp:revision>
  <dc:subject/>
  <dc:title>Sin título de diapositiv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612162445</vt:r8>
  </property>
  <property fmtid="{D5CDD505-2E9C-101B-9397-08002B2CF9AE}" pid="3" name="_AuthorEmail">
    <vt:lpwstr>jore@comexperu.org.pe</vt:lpwstr>
  </property>
  <property fmtid="{D5CDD505-2E9C-101B-9397-08002B2CF9AE}" pid="4" name="_AuthorEmailDisplayName">
    <vt:lpwstr>Juan Carlos Ore</vt:lpwstr>
  </property>
  <property fmtid="{D5CDD505-2E9C-101B-9397-08002B2CF9AE}" pid="5" name="_EmailSubject">
    <vt:lpwstr>web</vt:lpwstr>
  </property>
</Properties>
</file>